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3FB-7286-438A-BD2F-F6AB8E0E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860-8728-4604-9063-3C289499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198-A8F8-4ABF-8646-F03EC747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A3B-C8BF-41AF-91AD-4FFEEC40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3D5-77F5-4833-8366-4969A25C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9234-1909-4CB4-9CB7-5F9528AA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A47-7C07-4C13-B47C-4D6E9B6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0F9E-F9D5-4CD3-8218-8A8AA57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9586-35BF-4490-9309-46A448F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9357-2E72-4A63-9FFE-70012DB7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348A-E206-445D-8B26-EADC8237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26A-2393-4CA9-A0B6-5B2A209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3E1B-9209-42C0-98FD-6A3EDAF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A85-A89F-4A40-BA92-A500322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EAC0-05D7-4B8E-95BB-F81F847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AA28-BF65-4554-A947-D41C7FC1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7D2-B6EF-4281-BB8E-4642BCF4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3FF-35FB-4C00-AE64-8357D84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A62-925D-4840-957C-B0F5605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DDA-C8ED-41F8-A97F-B2C060B8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85F-E489-4EA5-88C7-A6D5E73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F46-8D4E-4607-BDB5-44872D3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C7A-0C26-41CA-8F20-DA4CAD7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809-81BF-4E15-8D77-1C13AF3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AA6E-59CA-4C73-89AA-CBFD2E481DD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8C55-3D67-49D3-82F9-232D4540FDB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85800" y="6094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ует ли спор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ынешнему поколен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6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И снова старый добрый приятель –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хокке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Равно как и фигурное катание, данный спорт постоянно находится в десятке самых из самых. Одним словом, он всегда в мод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Arial"/>
              </a:rPr>
              <a:t>5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йнтболл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Уж если кто из родителей захочет найти общий язык с детьми, так лучше всего это сделать на пейнтболле. Чрезвычайно популярный вид спорта, как среди взрослого поколения, так и среди подростко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Arial"/>
              </a:rPr>
              <a:t>4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Художественная гимнастика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Один из самых прекрасных и сексуальных видов спорта не потерял свою актуальность и в наши д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В общем-то, успехи, победы и красивая пластика тела заставляют девчонок идти в этот вид. Правда, назвать его модно-молодежным можно лишь с натяжкой, потому, что в него приходят девчонки от 5 ле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ноубордист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это хорошо. И зря сноуборд всегда позиционируют как развлечение для богатеньких. Да, доска конечно, не из дешевых спорттоваров будет, но и обмундирование по такому летнему виду спорта, как большой теннис, довольно дорого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й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Не путать, байкеры – большие волосатые мужчины на мотоциклах, а байк – это экстремальный велоспорт. Наиболее моден и популярен больше в Южных регионах России, таких как Краснодарский край, но учитывая, что в последнее время крытых дворцов по экстремальным видам спорта было построено не меньше ледовых дворцов, за последние три года интерес и количество задействованных в нем лиц резко возросл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у и первое, топовое место занимает среди подростков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ей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Как и во многих других странах, в частности США, этот спорт наиболее популярен и у нас. Правда королевство маловато, разгуляться нам негде, легко балансировать по пешехожим бульварам не получится. Но красота требует жерт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562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Опрос показал, что лишь 34% школьников занимаются в спортивных секциях и группах. Причем среди мальчиков этот показатель составляет примерно 55%, а среди девочек - всего 19%. С возрастом, за пять лет - от 12 до 17 лет, этот показатель снижается у мальчиков с 62,5 до 47%, а у девушек с 22,5 до 16%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Кубок-ДЮКФП-по-баскетболу-юноши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дзюдо-"/>
          <p:cNvPicPr/>
          <p:nvPr/>
        </p:nvPicPr>
        <p:blipFill>
          <a:blip r:embed="rId3"/>
          <a:stretch/>
        </p:blipFill>
        <p:spPr>
          <a:xfrm>
            <a:off x="0" y="3048120"/>
            <a:ext cx="4952880" cy="3268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7339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знать, интересует ли спорт нынешнему поколе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акие виды спорта привлекают нашу молодёж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3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Популярные виды подросткового спор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0 мес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следнее место в этой десятке отдано подростками, как ни странно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футболу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Да, да! Футбол всегда был популярен в нашей стране и не только среди взрослых. Просто, если сравнивать подростков Британии и отечественных, то этот вид спорта значительно уступает по популярности его собрату с Туманного Альби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9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арое добро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игурное катани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рекрасный вид спорта, который вот уже 55 лет не покидает десятку ведущих спортивных дисциплин Российской федерации, становясь то первым, то последним. Причин повышения-понижения популярности фигурного катания множество: и победы великих пар Роднина-Зайцев, Букин-Бестемьянова с одной стороны; и временный застой в этой тематике в определенные годы с друг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8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аркур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один из самых молодых видов спорта не только в России, но и в мире. И посему, еще не смог набрать бешеную популярность, однако сразу вошел в топ наипопулярнейших. Постепенно этот спорт становится одним из самых излюбленных активностей подростков. Посудите сами: душа переходного возраста бунтует и не любит ограничений, а это как раз и является основной идеей парку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7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ять экстремальный вид спорта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лик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В США ролики, между прочим, удерживаются в первой тройке лидеров наравне с такими видами как байк и скей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7106</cp:lastModifiedBy>
  <dcterms:modified xsi:type="dcterms:W3CDTF">2009-11-23T08:22:2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